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72738"/>
        <c:axId val="97633713"/>
      </c:barChart>
      <c:catAx>
        <c:axId val="27472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33713"/>
        <c:crosses val="autoZero"/>
        <c:auto val="1"/>
        <c:lblAlgn val="ctr"/>
        <c:lblOffset val="100"/>
        <c:noMultiLvlLbl val="0"/>
      </c:catAx>
      <c:valAx>
        <c:axId val="97633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72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516-7415-4C73-B8C2-22DC08FC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59E-AB45-4BE2-B748-C820D74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817-79B1-463A-90B5-C70C5B25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EA7-8E79-4279-AFDC-196D54ED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23E-EE64-4074-BFE3-3F1AF749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E04-26FE-4005-9713-C67E3302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561-FAAE-4E06-B1F0-1EFEB9E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434-5D1E-4694-9D30-229D0949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4B0-6D28-4BBB-8638-1AF97C8D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083-3DE4-46D5-9C1F-A387BE0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9F2-C18B-4B7F-9B3C-BD2B2AF5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A11-4F5F-43E8-88C5-4C9DF4A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DBCF0-0ECE-4449-84B2-2A0C2E2CC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