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79095"/>
        <c:axId val="54742068"/>
      </c:barChart>
      <c:catAx>
        <c:axId val="77579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42068"/>
        <c:crosses val="autoZero"/>
        <c:auto val="1"/>
        <c:lblAlgn val="ctr"/>
        <c:lblOffset val="100"/>
        <c:noMultiLvlLbl val="0"/>
      </c:catAx>
      <c:valAx>
        <c:axId val="54742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79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43A-ABB9-46E3-BF08-0EAF947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09F-4C53-43C4-ACB8-5A2546E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F1C-5705-4FCB-9F59-5105E388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BD9-9B71-4695-B7CA-E1B85E4F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B8B-E5B9-4033-94C6-0095440B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A7F-6D8A-4B72-B71C-67216889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75B-9619-42A5-9313-3A3B9A5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E69-1CCB-4E67-A5D8-9E215C20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ED1-AB9A-4DD2-9D15-4FA050E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0F6-54A5-4E95-B84F-5CEE7A8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165-5FF9-4381-BC3A-2827BC64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DBC-98EF-42F4-8058-FC22F11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58D4-2C43-4D6D-934A-713257C08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