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99685"/>
        <c:axId val="15665681"/>
      </c:barChart>
      <c:catAx>
        <c:axId val="41799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65681"/>
        <c:crosses val="autoZero"/>
        <c:auto val="1"/>
        <c:lblAlgn val="ctr"/>
        <c:lblOffset val="100"/>
        <c:noMultiLvlLbl val="0"/>
      </c:catAx>
      <c:valAx>
        <c:axId val="15665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99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262-11F6-4AF4-97A3-8F6CBE0F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E58-E73B-4076-9900-D6F39550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198-0F27-41A4-8557-1F4981EC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5F4-0EB9-4017-B1FD-12C1E45F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2E3-5E0A-44A3-A076-51E53C13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E98-1B0D-459D-A234-5EC42765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F20-40FC-46E0-92E7-3ECDE9B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460-5570-46D8-A0D3-ABF5CEB9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98B-AFAC-468A-9FAF-AF2D52E8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F96-7D89-414C-ACDE-FB83C840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92C-EA48-46A1-8381-1990F78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E59-205F-4B42-908B-B1AC7C8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40D57-DCAB-4ECB-B769-AF87749F2C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