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64637"/>
        <c:axId val="26520346"/>
      </c:barChart>
      <c:catAx>
        <c:axId val="97464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0346"/>
        <c:crosses val="autoZero"/>
        <c:auto val="1"/>
        <c:lblAlgn val="ctr"/>
        <c:lblOffset val="100"/>
        <c:noMultiLvlLbl val="0"/>
      </c:catAx>
      <c:valAx>
        <c:axId val="2652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64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8EB-7E61-4B48-AFDE-BBF5F312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602-704C-457F-AD4C-E9D9A2F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F3E-4695-478D-B199-546399BA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EEE-9194-423D-ACA4-50A7602E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ABD-8924-49D1-9B7F-1631A735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557-CABF-4E10-AFB5-B03B822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EE5-6CCC-409F-A78A-89BA2E5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209-4A63-4042-B2D4-B5F45B9B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46-C717-4512-BB05-AA35CC2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911-CD86-462A-8582-4FD7EB1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8D7-BB2D-470D-9592-FE2313F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428-EE3C-4532-8676-27F9847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EA4C-715C-4F42-964A-FB7FBC2F6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