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734926"/>
        <c:axId val="68321189"/>
      </c:barChart>
      <c:catAx>
        <c:axId val="887349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21189"/>
        <c:crosses val="autoZero"/>
        <c:auto val="1"/>
        <c:lblAlgn val="ctr"/>
        <c:lblOffset val="100"/>
        <c:noMultiLvlLbl val="0"/>
      </c:catAx>
      <c:valAx>
        <c:axId val="683211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349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6A6E-71B3-41CA-BC61-A49CD551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544D-F8CC-498E-85D8-4DBA9A6A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3EE9-7FC5-4AFF-A465-6B6985F1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9222-473B-4499-8F08-375DA3CB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EE52-73B3-49CD-B27B-F3E05609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0DD5-99A6-4857-96AA-9B4050E2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E52C-0529-4DF8-9B40-C1D9FD98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7324-F4E6-4D44-BFCD-BE6ED965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7031-4E8B-4DCE-9712-007F6E30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65A5-FC17-4039-8227-20FACC27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00F9-9A53-4B63-9F2F-045FBD83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A520-1AFB-4622-B01F-B44C7625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37BB0-5E37-426D-AA50-B57A0D0B16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