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724434"/>
        <c:axId val="61172224"/>
      </c:barChart>
      <c:catAx>
        <c:axId val="377244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72224"/>
        <c:crosses val="autoZero"/>
        <c:auto val="1"/>
        <c:lblAlgn val="ctr"/>
        <c:lblOffset val="100"/>
        <c:noMultiLvlLbl val="0"/>
      </c:catAx>
      <c:valAx>
        <c:axId val="61172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244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3D8-3D44-4D47-8081-03EF39DE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6E8-C297-4E1D-8771-D07E06BE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E218-234C-42E6-AD54-326D9C94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A94E-64DA-46A2-A0F3-A13EC005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2229-8041-4182-8FF6-76A24CE2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B8A-85ED-44CE-85F5-98C0A0DE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65D7-932E-4180-887B-CED1B364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79C4-3F44-47CD-A530-59AD4F2A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149-B42A-4F77-A58D-147E3F62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5E33-74EF-4304-8768-F6107969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466E-B92C-496E-8BB7-6536C3B9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EC83-CF28-4A4A-A892-7E14AB21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11EBA-AF37-4998-ABA4-6D57930ECA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