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6558935"/>
        <c:axId val="90142295"/>
      </c:barChart>
      <c:catAx>
        <c:axId val="5655893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142295"/>
        <c:crosses val="autoZero"/>
        <c:auto val="1"/>
        <c:lblAlgn val="ctr"/>
        <c:lblOffset val="100"/>
        <c:noMultiLvlLbl val="0"/>
      </c:catAx>
      <c:valAx>
        <c:axId val="9014229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55893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68D7-F5FD-466C-9B75-4AA16ECC5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D494-8790-4542-8D85-062A763D7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E83D-A41F-4A03-8B7D-1BD494CDD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9E86-FEDD-4CEC-AB9C-D3E12B2A8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B5C0-45B4-4EDD-A13F-AFD9D865A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FFA1-A6D3-4782-B94F-DDBF64032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603D-43D2-40AD-ADBB-77983C3D1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C9B2-138F-4C21-8C2C-F052C4FFE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DDBC-84D2-49AD-8C4E-509472236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FCF9-6303-4FC1-A9FB-3A908117E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140E-C76F-4F9A-B44F-A584FAE66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C5D5-0E1C-46E5-9F00-A0506D464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E1758D-E0E1-48D8-BDD1-9DC9B690E6C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