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54858"/>
        <c:axId val="40305320"/>
      </c:barChart>
      <c:catAx>
        <c:axId val="12154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05320"/>
        <c:crosses val="autoZero"/>
        <c:auto val="1"/>
        <c:lblAlgn val="ctr"/>
        <c:lblOffset val="100"/>
        <c:noMultiLvlLbl val="0"/>
      </c:catAx>
      <c:valAx>
        <c:axId val="40305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54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F0A-8684-4DD6-B1AF-AA826FFB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21D-C5BD-4880-92B3-CB67C06E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BB2-F0F5-4F96-83DD-599173AA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A20-AA0F-435D-9B52-E2855083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73D-2C15-46F8-8BBC-BEDA26E0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83B-202C-498E-97CF-4E7BC432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8DC-541A-41E4-AB8F-98875103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667-191A-45EF-AF2F-8B1A08D0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D2E-9E8C-4F36-AF16-1CEA4DCA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789-7460-409C-8C21-4D428A9C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28A-C53D-4440-9259-EAB4CF2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F49-6AD7-4730-BB0D-CC4FB2C9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9B742-F6EA-4A0D-9DE2-FC9D3DC1CF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