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818272"/>
        <c:axId val="32981908"/>
      </c:barChart>
      <c:catAx>
        <c:axId val="418182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981908"/>
        <c:crosses val="autoZero"/>
        <c:auto val="1"/>
        <c:lblAlgn val="ctr"/>
        <c:lblOffset val="100"/>
        <c:noMultiLvlLbl val="0"/>
      </c:catAx>
      <c:valAx>
        <c:axId val="329819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8182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40D9-5C13-448C-83AD-E728EE4A3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5BBD-2895-442C-B33D-493A778A2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AB7C-B1B4-479E-B856-3892AA40D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8B21-BCC2-4CF9-805A-DDEE4554C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90FD-3868-4475-A736-6319BB9CA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8F83-9864-42D8-9BFB-DAF7BA503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00F4-DA91-4169-8334-98663A618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EB87-874A-45CE-94D6-0CC7798B3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0C7B-C978-4159-A9A3-2A5C9E634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5D4F-43EB-4DEC-9348-C7E2B67A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8C36-551C-4E30-BA5C-758DB89E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2094-B60E-4F1C-B4C9-A61053EC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1E105C-3B1E-49F9-8F0A-41752C351A9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