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96576"/>
        <c:axId val="38044372"/>
      </c:barChart>
      <c:catAx>
        <c:axId val="57896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44372"/>
        <c:crosses val="autoZero"/>
        <c:auto val="1"/>
        <c:lblAlgn val="ctr"/>
        <c:lblOffset val="100"/>
        <c:noMultiLvlLbl val="0"/>
      </c:catAx>
      <c:valAx>
        <c:axId val="38044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6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1A6-DA39-464E-BD1C-ED5A25A1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E71-9BF4-4525-AF81-67D971B1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435-254B-451B-B787-ACB3F5CC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EC0-A48B-43BE-B497-90A494B9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084-45AF-4F89-AB18-52EA526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B50-F9D5-4139-BC98-D9E1C29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D12-A829-4D6E-9774-28751150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A84-113D-416F-A1A5-D1581DF5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C7A-3323-4680-A6EB-FF65E36D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4FF-C907-44A2-B147-D2E956C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9C1-6033-4073-AE96-DB1DCFA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D9A-1E59-451C-A2C9-30855E8F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C4D46-3C54-48BE-8C11-11C5ED2320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