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15700"/>
        <c:axId val="99579835"/>
      </c:barChart>
      <c:catAx>
        <c:axId val="9671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79835"/>
        <c:crosses val="autoZero"/>
        <c:auto val="1"/>
        <c:lblAlgn val="ctr"/>
        <c:lblOffset val="100"/>
        <c:noMultiLvlLbl val="0"/>
      </c:catAx>
      <c:valAx>
        <c:axId val="99579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62D-D390-4B67-BA2D-F497D670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8B1-9D8E-4CA0-8F58-ABE76CC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11F-EEDA-4EF6-9EB9-D27D9C59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EBA-6238-410F-8798-38C6550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A51-2B0C-4B6F-A972-28F17EB2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C8A-9812-483E-8F61-56BE4A2D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86C-4476-44BC-BA4A-B305ABA7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0F8-2577-4C9C-B486-C110EC11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D83-D369-47EB-A484-6C455769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B99-BF0F-43CD-A2FF-56BDCB9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22B-3514-4728-89AB-1E70371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B7F-1758-4CA7-B75B-8C75D34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FC76-7AD2-4ADC-9B0D-F21AE417A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