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193376"/>
        <c:axId val="31842731"/>
      </c:barChart>
      <c:catAx>
        <c:axId val="681933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842731"/>
        <c:crosses val="autoZero"/>
        <c:auto val="1"/>
        <c:lblAlgn val="ctr"/>
        <c:lblOffset val="100"/>
        <c:noMultiLvlLbl val="0"/>
      </c:catAx>
      <c:valAx>
        <c:axId val="318427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1933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E82E-D029-4A0E-89AD-621FC898F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A51F-58C3-4D4D-9F13-D0DBC788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5BD4-3604-4F44-A195-78211D30A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7FF5-A174-419F-B570-1F95C9558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39A8-F126-4371-B470-66F2777B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7772-1A96-4E7F-9B1C-FE4BD0B0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9951-3466-4199-A0CE-C9823D12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4034-3757-4ACC-B800-D7C72692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90D8-5E04-4731-8D77-085AF73D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975A-1D5C-4465-ACB3-5C9FCCDA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8F55-6C2F-47A1-B301-8F5DC3FA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D0AE-A715-4F4B-AD8E-A764EB35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B86A7-AB26-486C-A8E2-30572308FA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