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21262"/>
        <c:axId val="1983628"/>
      </c:barChart>
      <c:catAx>
        <c:axId val="25321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3628"/>
        <c:crosses val="autoZero"/>
        <c:auto val="1"/>
        <c:lblAlgn val="ctr"/>
        <c:lblOffset val="100"/>
        <c:noMultiLvlLbl val="0"/>
      </c:catAx>
      <c:valAx>
        <c:axId val="1983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1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D52-9D0A-44A5-ADE4-4B35B39D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D69-BBD5-412A-9B77-8907A452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470-7E7C-4D0B-B9E6-9E8A8FED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1FC-6EDA-4C8B-A005-793DA853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875-1109-45B1-87F2-C9EA9328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BB7-2357-4987-B1E5-E9A677F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783-0292-4AB1-9789-6B37BE6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796-C433-4459-BC6A-7D7816D8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91E-D382-4222-BB5B-4819AF01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B8C-214A-4F33-969E-772F5C0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BF1-04CE-46D8-B7F1-537E7FB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4EA-5B43-4673-B27D-89198151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3D897-1D22-4520-9CAF-7ABEDE679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