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94258"/>
        <c:axId val="13801647"/>
      </c:barChart>
      <c:catAx>
        <c:axId val="14894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1647"/>
        <c:crosses val="autoZero"/>
        <c:auto val="1"/>
        <c:lblAlgn val="ctr"/>
        <c:lblOffset val="100"/>
        <c:noMultiLvlLbl val="0"/>
      </c:catAx>
      <c:valAx>
        <c:axId val="13801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4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25E-DEF0-4B62-BEEC-EDFA7E0B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997-F589-4736-80FD-79E446B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632-3A4A-490D-87E5-4363AA3E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D55-B95D-4AB9-811F-49BF3BD4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E31-C83F-4FF7-A384-1C757A3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7D9-764A-4F73-8188-69DE540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5C3-B706-42AA-A3C5-E7CD673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493-CBC6-426B-974F-87B3472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233-6155-47C7-8EA3-0FB94BD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8CC-84DD-4208-A63F-ECE1BD2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CA7-213A-4A07-8E69-F6EFBB1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5AB-BC37-4FD2-9336-5B0B273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F9BDB-9EBE-4EC4-919A-2C0D20E0E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