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22892"/>
        <c:axId val="96164830"/>
      </c:barChart>
      <c:catAx>
        <c:axId val="82222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4830"/>
        <c:crosses val="autoZero"/>
        <c:auto val="1"/>
        <c:lblAlgn val="ctr"/>
        <c:lblOffset val="100"/>
        <c:noMultiLvlLbl val="0"/>
      </c:catAx>
      <c:valAx>
        <c:axId val="96164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22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278-239F-4957-9945-A14C0D66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A81-2C44-4CB3-8FD7-EFFBD5A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150-D53E-4C49-8DE2-1783E11B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8B3-9815-457F-8A3B-A732AFB3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0F7-C940-4D33-9B16-F857A7C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35D-34F3-419B-9623-CE2E6EA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74E-8129-4C72-93B8-1C9F36B9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FA1-D7FA-4DCC-95FC-B68181FB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F87-2B5F-4CF4-93D8-97BD3C32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B2F-69B4-4BFF-B164-7F487F5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020-F229-4058-904C-50627DA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385-6874-421C-844A-2C8BB50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77D4-96DC-41FD-A9A2-A213D81E1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