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05016"/>
        <c:axId val="56851817"/>
      </c:barChart>
      <c:catAx>
        <c:axId val="91505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51817"/>
        <c:crosses val="autoZero"/>
        <c:auto val="1"/>
        <c:lblAlgn val="ctr"/>
        <c:lblOffset val="100"/>
        <c:noMultiLvlLbl val="0"/>
      </c:catAx>
      <c:valAx>
        <c:axId val="56851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05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854-8AB5-4A3D-B025-7E52B339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E5C-00EC-469A-A8CC-CE27EE24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0AB-55DB-4198-9303-3017083D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9F1-D554-4B44-8478-94B5776C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5EB-A3D8-46CA-931F-1AF19125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047-FBA7-49C1-A445-B221575E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FC7-1689-4400-92F7-9468CB31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2F1-171D-4CAB-87A8-5BCEC8AC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880-EB16-469E-8707-80A85C61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8D2-7289-4747-94AB-E556C377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2FA-BFCA-48F3-BA66-67D09B34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255-BCD8-4719-83A6-FFC4C70C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9E980-22A2-4F0B-98D3-4E45E1E055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