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23167"/>
        <c:axId val="67924628"/>
      </c:barChart>
      <c:catAx>
        <c:axId val="43923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24628"/>
        <c:crosses val="autoZero"/>
        <c:auto val="1"/>
        <c:lblAlgn val="ctr"/>
        <c:lblOffset val="100"/>
        <c:noMultiLvlLbl val="0"/>
      </c:catAx>
      <c:valAx>
        <c:axId val="67924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23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3A4-A00E-4F27-B1B5-785E6B51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E44-5E01-4A43-9F16-48EDD344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3BF-C845-4E7C-9953-6FA67002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F8C-FCE9-495D-92F3-4A9CBBF1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CDA-0D47-4167-885A-092ABA56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376-DB8D-4369-B1DD-AC3106A8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CEA-DCAF-4515-99B6-5479F41D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362-995C-4BB3-A68B-A39F8185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B5A-EFBD-4758-B500-963263F8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F88-5771-4D6E-9071-D69D182B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551-CE05-4EAA-B1B1-D3AD4F9E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F77-FF18-49D8-B500-EDAA713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F3B4C-F762-441B-BF6E-87A3C2A060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