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43341"/>
        <c:axId val="55090163"/>
      </c:barChart>
      <c:catAx>
        <c:axId val="34043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90163"/>
        <c:crosses val="autoZero"/>
        <c:auto val="1"/>
        <c:lblAlgn val="ctr"/>
        <c:lblOffset val="100"/>
        <c:noMultiLvlLbl val="0"/>
      </c:catAx>
      <c:valAx>
        <c:axId val="55090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43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193-8C8A-402D-BEE3-0B25E8FF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B56-8D69-454C-91FD-C7B41854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B37-5ECB-4B71-B24E-4A55108C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8A5-F8D6-4468-86BB-AD4718FE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265-664D-4960-93AE-DF3C5AEC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D08-6A3E-4FD3-A4E4-CEB54F9D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C6B-7D92-4081-8794-51D185C3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B8B-8814-4035-8866-89697D88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975-F965-44F2-9832-750C4CCA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345-350A-411E-9AEC-5F572E2B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B4D-D779-418A-9E2A-0B5177AE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271-A2FE-4DD3-8775-79560B67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00FC6-9E9A-44D1-B0FD-F12752B9F6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