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965521"/>
        <c:axId val="57674611"/>
      </c:barChart>
      <c:catAx>
        <c:axId val="459655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74611"/>
        <c:crosses val="autoZero"/>
        <c:auto val="1"/>
        <c:lblAlgn val="ctr"/>
        <c:lblOffset val="100"/>
        <c:noMultiLvlLbl val="0"/>
      </c:catAx>
      <c:valAx>
        <c:axId val="576746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655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737E-845D-4E09-8B7B-310FF910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D0E0-2EC2-4DBC-BD4C-8141C117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1404-6C10-406C-8235-570D98E29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4BE3-FC1E-4340-A189-3182722E7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2593-D000-461B-9669-C21DB28C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86AF-4FEE-475A-B416-58A2D87F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9793-A4DB-4C61-8D3C-31AA607C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9C2E-DDB1-4578-BA1A-9D4E330D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EE21-389B-454D-94E7-BCE54D78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0C4C-54A7-440D-8C03-DA266A90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8E60-E44E-4EF4-816E-C6947C17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D2E7-049C-439E-8B83-6DE47260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D8E5C-4F5F-43D0-9A19-5532A976F8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