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1373"/>
        <c:axId val="6304488"/>
      </c:barChart>
      <c:catAx>
        <c:axId val="1171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4488"/>
        <c:crosses val="autoZero"/>
        <c:auto val="1"/>
        <c:lblAlgn val="ctr"/>
        <c:lblOffset val="100"/>
        <c:noMultiLvlLbl val="0"/>
      </c:catAx>
      <c:valAx>
        <c:axId val="6304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1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6C9-0906-4B40-9F60-9BC8E98C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D64-17A2-4092-89DE-2BB48116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65D-6627-48DB-8DBD-9B97F890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623-83F6-47A6-B661-F46D271A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8C7-11A1-4914-A0F7-8FD8D9AB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B98-9699-4941-8FEA-CA37348D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654-7168-4427-B6E4-62DDB0B2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191-41D2-410C-BF4A-618FF811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923-6B76-477E-851D-D11C47CB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23D-ED1F-44C7-B0D5-591C3323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C22-3CC3-413D-97EB-D307D706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D4E-967C-4188-9F51-926362AD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A9176-8485-4531-ABEA-EDC83BE681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