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281902"/>
        <c:axId val="44034142"/>
      </c:barChart>
      <c:catAx>
        <c:axId val="372819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34142"/>
        <c:crosses val="autoZero"/>
        <c:auto val="1"/>
        <c:lblAlgn val="ctr"/>
        <c:lblOffset val="100"/>
        <c:noMultiLvlLbl val="0"/>
      </c:catAx>
      <c:valAx>
        <c:axId val="440341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819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4A60-E916-4CBC-BB2C-49B55B984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B2DC-42C6-4CD8-8B64-588D7CED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1ED1-2EDC-46B1-900F-6353D19C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DA50-4000-4A0E-8923-48CE9BE6C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0264-1D9E-4E1F-B17D-AFB38BFC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A759-ECF5-447B-B254-ADE453C5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7CC3-BB5B-4945-A6E4-ED9B325E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4A5F-6E75-4D6A-B89F-14EA2D8A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809F-AC6A-469A-8B9A-70484EDC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7A5B-3510-48CF-A967-3702367F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12C5-1B0E-4F28-BE3E-0DC3D099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9893-1131-47C7-A0EA-5DA98A6F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A9B90-F84B-468E-B38E-D6E20E188D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