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34551"/>
        <c:axId val="23284523"/>
      </c:barChart>
      <c:catAx>
        <c:axId val="52345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84523"/>
        <c:crosses val="autoZero"/>
        <c:auto val="1"/>
        <c:lblAlgn val="ctr"/>
        <c:lblOffset val="100"/>
        <c:noMultiLvlLbl val="0"/>
      </c:catAx>
      <c:valAx>
        <c:axId val="23284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45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2041-B32A-4745-99F3-39976E21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621D-32F8-4E0A-931A-B294D555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13D1-ABB5-4090-A344-0FF972DD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D09C-D517-40D8-B7D0-B33C6A70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8678-A317-419F-A4B2-B1C9F9B1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13A0-B5F2-44CE-9D07-B0FABC84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B03C-F07E-40AB-B34A-3071E4BF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6E14-9087-4C0F-81E1-238FD275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B368-E355-4FDF-BC2A-F4175F03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37AF-F45E-4A85-A8BD-6EA1F32E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4F33-A60F-4C3D-AEF0-FE5A5069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A44-1E54-4945-979F-0B636D6F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2F498-5C6D-4FC0-BEC4-DA83922862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