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461265"/>
        <c:axId val="52256321"/>
      </c:barChart>
      <c:catAx>
        <c:axId val="46461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56321"/>
        <c:crosses val="autoZero"/>
        <c:auto val="1"/>
        <c:lblAlgn val="ctr"/>
        <c:lblOffset val="100"/>
        <c:noMultiLvlLbl val="0"/>
      </c:catAx>
      <c:valAx>
        <c:axId val="522563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61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0F39-C8E8-4CE8-B887-5A538967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6791-98A7-4E9B-B6E6-FEC7C32F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F4CB-A121-456A-A87D-275AAFD7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5849-7206-4A33-B3D5-C2544251F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1834-964A-4E17-A379-EF1C7C2A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6C9-254D-4895-9BF1-C578CA85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EB94-31B7-4127-A770-C914287A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3987-AE90-43BF-AC1A-6B77824B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4CA2-C50A-4FB9-BD6E-3E99013F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D967-B0B3-4AC9-820A-DF1A9800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7789-D24F-48B9-A49E-AA02F952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DAAB-E3F6-47F8-97CB-A353AA38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F4D47-F982-4113-A28B-B6C454F043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