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4900"/>
        <c:axId val="1740143"/>
      </c:barChart>
      <c:catAx>
        <c:axId val="5964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0143"/>
        <c:crosses val="autoZero"/>
        <c:auto val="1"/>
        <c:lblAlgn val="ctr"/>
        <c:lblOffset val="100"/>
        <c:noMultiLvlLbl val="0"/>
      </c:catAx>
      <c:valAx>
        <c:axId val="1740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4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CBB-E240-4A79-B4C7-56898BD4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2D9-BF3A-409F-B284-BBCB39B7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519-0FE9-4430-ACAE-8D9F9B14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48D-FEA7-43AF-BB8C-7C6E0F4A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DE1-9CF1-4C22-B41C-DE05CB34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25F-4BB8-4CBC-89DA-9997A276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B6D-8D94-4B5D-AD40-25BFF744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CAC-1097-4867-8574-384A979E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9C1-DC2C-4B8E-BB52-32AE1ED8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206-5478-4FA9-95A8-BD1E2F6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D53-81E4-4615-9847-6F4FD62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BA7-EFAA-41AF-9AA8-83D6977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01173-0970-4816-95BB-22D8D24DD5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