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64665"/>
        <c:axId val="58410453"/>
      </c:barChart>
      <c:catAx>
        <c:axId val="39164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10453"/>
        <c:crosses val="autoZero"/>
        <c:auto val="1"/>
        <c:lblAlgn val="ctr"/>
        <c:lblOffset val="100"/>
        <c:noMultiLvlLbl val="0"/>
      </c:catAx>
      <c:valAx>
        <c:axId val="584104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64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447-C085-4E3A-A176-282BCE92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CE7F-B6AA-432B-9432-1ED6FC8C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8577-323A-426E-911E-26A4B93E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7D14-6AF8-455D-8A66-0784D20D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B9C1-A5C3-43E6-9B25-BB2D022E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C2C-14E5-4630-AD30-7B488088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D505-5704-438A-9267-D1B12BFD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043-E5EA-45D3-873E-4BD7AD33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A0B7-39E0-419C-897D-B6B8E60A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22A-D3F1-4D4B-89D2-1BC1D6B2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270B-BCBB-4518-A182-CE56C69F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2F2-9805-4477-AEDD-E618CB5A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07654-6401-48FD-AC82-72A384C574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