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05088"/>
        <c:axId val="54720380"/>
      </c:barChart>
      <c:catAx>
        <c:axId val="61805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0380"/>
        <c:crosses val="autoZero"/>
        <c:auto val="1"/>
        <c:lblAlgn val="ctr"/>
        <c:lblOffset val="100"/>
        <c:noMultiLvlLbl val="0"/>
      </c:catAx>
      <c:valAx>
        <c:axId val="54720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5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B67-B426-4A23-8F53-E1F816BB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8C5-13C8-4DE7-AF48-BE9AE2A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5C2-CCF4-4277-A3CD-375F9D4C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E65-77DA-42FF-8E57-7D2967C1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96F-F924-4D1D-8433-DCAB3B6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325-C7A6-4249-B435-7D18114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334-E930-49B9-9A1E-B2BE4BF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A34-4E89-4888-9098-9A1B566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8AD-DFA1-4738-927C-3950AC9A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51B-4F63-458E-9528-29DA74B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283-369C-4820-AE0F-C46247A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027-2A0B-49A3-9576-693A35E3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E724-E917-484E-BB14-4D9AA8F6B4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