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78842"/>
        <c:axId val="87862520"/>
      </c:barChart>
      <c:catAx>
        <c:axId val="28978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62520"/>
        <c:crosses val="autoZero"/>
        <c:auto val="1"/>
        <c:lblAlgn val="ctr"/>
        <c:lblOffset val="100"/>
        <c:noMultiLvlLbl val="0"/>
      </c:catAx>
      <c:valAx>
        <c:axId val="87862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78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EE9-2C11-4523-A8E3-2ABF256B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79E-4621-4431-AFAD-DD337FA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0CB-F707-4C45-A98C-65C016B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7DC-DC9F-44DC-BB79-C8C0D2BA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44D-A8C4-4882-882E-84BE2691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B92-AD7F-47FD-BA7A-9CB674AC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488-7F88-4423-879F-860D5B7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8D9-ECBE-469F-8222-3715BBE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E16-6CFE-45EA-B9B3-7CE8D6A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972-33FC-4AF6-AAE3-CD625AD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268-E0F8-45CC-9B79-F9A67D6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381-644A-4AC6-BB84-9D739AB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1E35-8F2B-4F38-B0D3-4408F0B30F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