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81569"/>
        <c:axId val="98283294"/>
      </c:barChart>
      <c:catAx>
        <c:axId val="28281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83294"/>
        <c:crosses val="autoZero"/>
        <c:auto val="1"/>
        <c:lblAlgn val="ctr"/>
        <c:lblOffset val="100"/>
        <c:noMultiLvlLbl val="0"/>
      </c:catAx>
      <c:valAx>
        <c:axId val="98283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1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4CF-C79C-49E9-AE42-57E112F8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551-07CE-4F49-B60E-E609BEEA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979-0F17-44DF-B346-1C3E15FE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14F-C8E1-4CB6-8DC6-6E4D1A83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547-CF94-482B-8E1E-ED60A101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F69-D410-4E23-838E-AE55AD2F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C96-66C6-4D1A-BBE4-3CB41FC1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BC9-FF7E-4C51-B3EA-0548C58A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AEC-A269-4163-B147-379CD678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659-1DF2-464E-A66D-1E966D4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16E-DF42-4D9F-87A3-DE1374F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B92-6AB3-41EA-82AD-A8FF8B4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851BE-AB2C-44E9-9F5D-36A63E4CBA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