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28381"/>
        <c:axId val="97487469"/>
      </c:barChart>
      <c:catAx>
        <c:axId val="89228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87469"/>
        <c:crosses val="autoZero"/>
        <c:auto val="1"/>
        <c:lblAlgn val="ctr"/>
        <c:lblOffset val="100"/>
        <c:noMultiLvlLbl val="0"/>
      </c:catAx>
      <c:valAx>
        <c:axId val="97487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28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1B54-37DB-4568-8CF7-20B3D807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122-44AF-40BA-88DB-6530AFCB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A16-49F8-4B96-AC02-FC503493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3197-F89C-4CE8-9830-A664ED45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0D2D-0FF2-448B-A662-C7B6E0D8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C42-10B3-426B-A3FD-8CCBDB07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ABC-E020-4A79-9BCE-3139F7FD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CA9-DABF-4F67-98DF-D0C5F1DF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C65-F200-4F6E-8C81-71DC9C52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982-BA3E-4B06-BD68-4B45CCA0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36D-9F21-422D-930D-C5980D62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9392-A93A-4C1A-8657-A6972CFC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C5947-B4FD-41D3-A0F5-09B2AF9E12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