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722677"/>
        <c:axId val="35673333"/>
      </c:barChart>
      <c:catAx>
        <c:axId val="947226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73333"/>
        <c:crosses val="autoZero"/>
        <c:auto val="1"/>
        <c:lblAlgn val="ctr"/>
        <c:lblOffset val="100"/>
        <c:noMultiLvlLbl val="0"/>
      </c:catAx>
      <c:valAx>
        <c:axId val="356733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226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4265-D0E8-470F-8C17-48E79A7F6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D199-13E7-46C0-866E-EA6AEC61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8F8E-4536-4007-96F1-14C04C703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6141-1732-485B-A135-310C57D38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AD99-71AB-4031-B6AD-60477951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20A5-05EF-46B5-AB7C-77D2FA5A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C3B0-5E8B-4E74-BCC0-7B63F7BB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5C65-221B-42AB-80AF-741E55B7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5762-0869-47DE-ADF7-DBF695A5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D48F-04F0-4BF0-8D07-1B944353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B265-C5B8-4DC3-9166-1283151F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018D-0A80-4A6A-AC72-3F968BBB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6B352-ADF2-43AC-A07B-2E527EB4AF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