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486394"/>
        <c:axId val="36415416"/>
      </c:barChart>
      <c:catAx>
        <c:axId val="224863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415416"/>
        <c:crosses val="autoZero"/>
        <c:auto val="1"/>
        <c:lblAlgn val="ctr"/>
        <c:lblOffset val="100"/>
        <c:noMultiLvlLbl val="0"/>
      </c:catAx>
      <c:valAx>
        <c:axId val="364154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4863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7482-B195-4494-8A79-40AA8D7C6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FBF2-0C37-4B08-B31E-F53655512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602D-582D-43C9-AC78-D57BA5306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D584-5537-4444-BBF6-459EACE8C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442B-BB4A-4055-894A-AEAEB95BD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237B-F307-469B-999B-06CC68BE2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FE5E-54E8-4F28-B98F-9D721D1C2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162B-7DC3-47AC-99C7-E58F6DBCA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3BA5-5C79-4F83-A3E8-863FCE19F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9E08-4311-4140-8E03-ACA63A9E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19AE-46B7-49FC-9368-59849DA6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83B0-1829-48DE-BAC3-A67CE23D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B2A790-3578-4D14-8D10-95805F6EAFF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