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45715"/>
        <c:axId val="114451"/>
      </c:barChart>
      <c:catAx>
        <c:axId val="77945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451"/>
        <c:crosses val="autoZero"/>
        <c:auto val="1"/>
        <c:lblAlgn val="ctr"/>
        <c:lblOffset val="100"/>
        <c:noMultiLvlLbl val="0"/>
      </c:catAx>
      <c:valAx>
        <c:axId val="114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45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5B03-12DC-491A-ADF7-D1295610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07E-BC56-4396-9F87-8E87E39B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052-72B8-4671-B170-8203466C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DE38-6B76-4D81-A796-B72271B7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EB5-807A-4450-9E31-6F8EEDAA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87F-ECDB-4781-B819-7D8FCE57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E25-7FA8-4E91-BE0F-D20FF804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F46-16ED-4E30-B830-89BFA861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0EC-AEC7-4EA2-8B10-839613F6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3C1-5E33-4901-BB32-ABF652C7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7A9-33CC-4D7A-9784-81BCDE4E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38B-41DA-407E-8ECF-A783E458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39AFA-2852-46F8-806D-AAA8FA20A5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