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38180"/>
        <c:axId val="89876145"/>
      </c:barChart>
      <c:catAx>
        <c:axId val="22138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76145"/>
        <c:crosses val="autoZero"/>
        <c:auto val="1"/>
        <c:lblAlgn val="ctr"/>
        <c:lblOffset val="100"/>
        <c:noMultiLvlLbl val="0"/>
      </c:catAx>
      <c:valAx>
        <c:axId val="89876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38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ACE2-1486-4784-8B1C-60F38455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007C-C34E-4D71-B91E-F8093D50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1D2-3863-4E2C-A33C-13C5915F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516-AB85-4D37-9F0D-0F224309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4A43-ADCC-41B0-A15B-DCD6CA77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4B81-FC38-49F9-A9A7-40C35DB2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10B7-6E89-4E57-8DDC-637D007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844-F7AE-4086-8BD3-1D6CAEBE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5E84-65F2-4649-8B86-80E34BAA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445-B00A-4EFA-9845-0EA40FA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5158-5BBA-4401-A752-82A38E88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7E49-983B-4B1E-A528-FFA97A0B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995B2-E218-4652-A11C-EE31B19095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