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68847"/>
        <c:axId val="49177974"/>
      </c:barChart>
      <c:catAx>
        <c:axId val="67068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7974"/>
        <c:crosses val="autoZero"/>
        <c:auto val="1"/>
        <c:lblAlgn val="ctr"/>
        <c:lblOffset val="100"/>
        <c:noMultiLvlLbl val="0"/>
      </c:catAx>
      <c:valAx>
        <c:axId val="49177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68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0C7-14A1-4C8B-8109-5EF50DE9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234-8767-4A98-A7E1-E96E4355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21F-B8B8-418A-96E7-22BDBF7C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7F0-AA1B-4CE3-BAD2-2DB93D50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4F7-3329-43AF-8D5B-9E00476F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FE6-F6AC-4BE8-A9C0-29ECBA14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C50-A276-42C8-B881-D6CBEBE6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6E1-2A6A-4CFF-810D-56927C16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C20-F6C4-4F4F-9A0E-420A2368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A10-312F-49D1-8921-390E0C4D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2B3-A784-4ADF-97FC-5EC05B9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E29-68D4-40C4-8C9F-073CCD7B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83D98-44DE-44C1-8C80-AE44E7AB55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