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85805"/>
        <c:axId val="50298673"/>
      </c:barChart>
      <c:catAx>
        <c:axId val="44285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98673"/>
        <c:crosses val="autoZero"/>
        <c:auto val="1"/>
        <c:lblAlgn val="ctr"/>
        <c:lblOffset val="100"/>
        <c:noMultiLvlLbl val="0"/>
      </c:catAx>
      <c:valAx>
        <c:axId val="50298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85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A10-DA80-4115-B654-DC17556B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C32-4A94-4CC1-B496-319FBE25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7AA-7161-44E9-B959-657F9133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8A8-AE6C-496B-BBB3-BBE5AD95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912-2B32-4488-813D-544AB4DD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F0E-E1C5-4E19-A87C-FCFD1158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F0B-B254-4C2E-8C22-EF3B7C18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A72-C0D6-48D8-A448-2DCB57B4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DFB-A7A2-4997-93BF-27E24285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1C1-D50F-4DA0-BAE7-FBE4014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FED-2F43-43D3-A02C-67B0A6A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103-B75C-49C7-9C17-780E6F0F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1636C-20B7-4C36-A18C-2937B582C2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