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67914"/>
        <c:axId val="90531950"/>
      </c:barChart>
      <c:catAx>
        <c:axId val="20767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31950"/>
        <c:crosses val="autoZero"/>
        <c:auto val="1"/>
        <c:lblAlgn val="ctr"/>
        <c:lblOffset val="100"/>
        <c:noMultiLvlLbl val="0"/>
      </c:catAx>
      <c:valAx>
        <c:axId val="90531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67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54C-5294-4879-A934-C3A3B8B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EBB-C799-4CA8-A04B-7AB3CEC2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8E7-EFC2-47AC-9657-A84D2E57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6DB-B40C-4420-AEF7-2B7DE108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D64-6301-42CB-8756-310AEF4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D17-3A63-40E4-A2FF-F3FE6842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942-0AE0-4BF4-8A62-81F27CD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060-13A7-4770-8C66-DC04D0C7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A2B-A6E0-4276-B3D5-33CB115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47E-0B18-46C1-B4FD-8F00ED3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766-15C3-444B-9FDC-DC5901B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816-6EC4-483C-AB12-AA3DEE2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3FE39-18E1-45C8-A830-2C060404A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