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487648"/>
        <c:axId val="93785381"/>
      </c:barChart>
      <c:catAx>
        <c:axId val="394876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785381"/>
        <c:crosses val="autoZero"/>
        <c:auto val="1"/>
        <c:lblAlgn val="ctr"/>
        <c:lblOffset val="100"/>
        <c:noMultiLvlLbl val="0"/>
      </c:catAx>
      <c:valAx>
        <c:axId val="937853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4876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4F0D-0AC7-4CFC-A256-B66A607CB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8CC4-3AFC-4449-9A52-1D3B0777F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5ADD-5DD6-408C-AE68-AB15A70BE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A04E-0EA8-4EF3-9088-9E1F08E7A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E23A-3CE6-4526-BF70-0AB094148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FE88-6C09-4BDB-A023-3D3354028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BEA9-C029-446F-BA5C-F164FFB9F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DF00-ECC0-48F8-BBFC-D8EC492C4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59B4-CD3F-4A92-8873-2DBAC87EC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E58E-5E7D-4A59-BA05-68D93170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88D2-89B3-44BD-91CF-1227756E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A95D-B39B-4062-8127-6B03D6B0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F5D4ED-31EF-4336-B39E-5204151D322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