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34717"/>
        <c:axId val="55525615"/>
      </c:barChart>
      <c:catAx>
        <c:axId val="76734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5615"/>
        <c:crosses val="autoZero"/>
        <c:auto val="1"/>
        <c:lblAlgn val="ctr"/>
        <c:lblOffset val="100"/>
        <c:noMultiLvlLbl val="0"/>
      </c:catAx>
      <c:valAx>
        <c:axId val="55525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4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56F-EEE8-433F-AB35-29C41621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A28-42D1-4928-9170-1D38FF3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C52-0E8B-4017-B1B3-96C4141F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B93-70D2-41D8-8B20-6B9046E6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7DD-9D70-4E97-87C0-4B89416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58D-21DD-458C-ACB8-69D0B09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CBE-B7FD-4818-A1DE-FE307DD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8AF-D419-44F2-A9F7-CFBF19A1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8DB-CAC6-4734-9AA2-C20A347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CD6-0BDB-4CA3-9A05-2B8D2ED7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488-FC06-4954-9C01-A675F8E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A1A-3C5E-4C04-B749-1451F47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E5BE-6C5B-40C3-A465-6CF1BB3B8E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