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04006"/>
        <c:axId val="81026218"/>
      </c:barChart>
      <c:catAx>
        <c:axId val="92204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26218"/>
        <c:crosses val="autoZero"/>
        <c:auto val="1"/>
        <c:lblAlgn val="ctr"/>
        <c:lblOffset val="100"/>
        <c:noMultiLvlLbl val="0"/>
      </c:catAx>
      <c:valAx>
        <c:axId val="81026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04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9CC-F62A-4015-B2CA-215A45E0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1DC-9A70-4012-9A0D-396F6B9F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EA2-6C58-4E6C-8502-5E000253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894-2169-4FA4-86EA-10F87B6C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403-48E4-4B86-A324-236F7C61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1BB-6262-4A68-96DA-FA7C957C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FE1-14FB-4D25-8948-FA377322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F4A-DF51-4683-800D-B1CBFBF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861-752E-4319-A65D-AF1798E1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6CA-267A-4A98-ACD5-C848AC59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A28-C517-4BF8-8410-6C92E6F3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52A-A772-4B95-87E1-2E07C63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5870-CD11-4B3B-A77B-AC8C5FF61A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