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85627"/>
        <c:axId val="11825620"/>
      </c:barChart>
      <c:catAx>
        <c:axId val="15085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25620"/>
        <c:crosses val="autoZero"/>
        <c:auto val="1"/>
        <c:lblAlgn val="ctr"/>
        <c:lblOffset val="100"/>
        <c:noMultiLvlLbl val="0"/>
      </c:catAx>
      <c:valAx>
        <c:axId val="11825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85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A52-D882-454B-B1A4-A3F09C60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21F-C1AC-43C7-ABF0-45976778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24C-EDBE-4B7A-9D40-5546C36C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82B-A235-4184-9032-C7323338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2D0-B41C-4FC2-9E72-F8646044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DF3-3FC2-4EE7-8EAB-739C0E54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F36-A5FB-41F3-9385-28642E41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701-DBFA-420F-843F-D7AA12C3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620-744C-4FDD-A913-A59290AA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31A-D174-45E1-A893-DFB103D8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17A-B93B-4944-8360-1FB519F6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CD6-FECF-449D-96A4-A9C37D9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8B2A9-E004-4858-8327-3D3ACC38A7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