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49317"/>
        <c:axId val="44080088"/>
      </c:barChart>
      <c:catAx>
        <c:axId val="29049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80088"/>
        <c:crosses val="autoZero"/>
        <c:auto val="1"/>
        <c:lblAlgn val="ctr"/>
        <c:lblOffset val="100"/>
        <c:noMultiLvlLbl val="0"/>
      </c:catAx>
      <c:valAx>
        <c:axId val="44080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49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A45-2AC3-42D7-9A6B-8A464B1A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385-2B75-4A23-B25B-D34AC8AB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351-9406-4133-895F-CB187F34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813-D281-4BA8-B470-9E1C5CE9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91C-9B2C-4982-A865-E08E5AAC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6CB-1107-4A4C-9A8E-711594F6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FEF-6E2D-4B66-9F44-605D6F80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71A-D41B-4B9F-AC10-FA5D06E9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88C-4F37-4B5A-8E53-EDFCBEBF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2AF-4A88-4207-B04A-A11570D2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C83-804E-462F-BE9B-09F92E63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51C-4926-46BD-A787-08B72AA8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1A953-93D4-440A-A7DF-434DFCC39F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