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49974"/>
        <c:axId val="4906492"/>
      </c:barChart>
      <c:catAx>
        <c:axId val="893499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6492"/>
        <c:crosses val="autoZero"/>
        <c:auto val="1"/>
        <c:lblAlgn val="ctr"/>
        <c:lblOffset val="100"/>
        <c:noMultiLvlLbl val="0"/>
      </c:catAx>
      <c:valAx>
        <c:axId val="4906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499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6F57-9281-4772-996A-7C8884E4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C105-5980-4F1F-AB5E-D3E40AA8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E50-50DC-47F9-884C-DD938566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C51-557F-49B3-ADE0-8EAA7E66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E9A-F969-4B6A-BE46-7489BBF5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D10-BDF7-4CE9-BBE5-E07D3E87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E70-13D2-4B6F-82ED-81701C62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CAF-C466-44B1-9627-9C0084A4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E89-8F3F-4AE7-B9E7-AE40DC82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D92D-13A9-4E70-A481-C99F1B2E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30B-274F-4580-81E9-BC71221A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000-864D-4215-BD09-5827B026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C1E23-D667-46CE-AAB1-554D6EEB05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