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930587"/>
        <c:axId val="91603463"/>
      </c:barChart>
      <c:catAx>
        <c:axId val="439305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603463"/>
        <c:crosses val="autoZero"/>
        <c:auto val="1"/>
        <c:lblAlgn val="ctr"/>
        <c:lblOffset val="100"/>
        <c:noMultiLvlLbl val="0"/>
      </c:catAx>
      <c:valAx>
        <c:axId val="916034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305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9751-9DF9-48CA-94A5-1A9314581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DB6D-B63A-4CB4-9001-30B5EE4B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A9E3-9DBB-4955-91EE-46788D9C8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6F7A-E499-4985-9F11-BEF26A3C1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4A8F-4881-4B49-BCF2-0C172455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087C-7BAF-40DE-8D2B-2A773F39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5763-6F47-454F-9846-FCB94201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A854-977E-451B-AF6F-E0D4B62D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D384-E3DC-46CE-ABA2-8032B657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1653-AEE2-4BD1-8DB4-742F40B5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8B5F-1BA9-4CBA-9F0B-7A05165D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6563-BEFF-4DE9-8D94-0524AFD0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C4D793-E3DD-4EF4-AE60-764801DC29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