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9527"/>
        <c:axId val="84118458"/>
      </c:barChart>
      <c:catAx>
        <c:axId val="4339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18458"/>
        <c:crosses val="autoZero"/>
        <c:auto val="1"/>
        <c:lblAlgn val="ctr"/>
        <c:lblOffset val="100"/>
        <c:noMultiLvlLbl val="0"/>
      </c:catAx>
      <c:valAx>
        <c:axId val="84118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9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906-579F-4644-8DDA-560FF43D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F31-575F-4B8C-96C9-7725D525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7A8-6AD4-48CC-B207-E4E817EB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E81-2989-4685-92DA-1D98A7CD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01D-735A-4A2C-AA35-29B33AD9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31A-9FF9-419F-A466-7B6B5393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FCB-51B2-4BBC-8545-DB83CBF2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B83-4632-4754-B96F-98A98B21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A3D-93AA-4DFE-8EA8-510A3B4D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17A-B637-402E-9A8E-1943D747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65F-BA37-466F-A020-5B7C11EE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18F-B43A-421C-A410-37F3A577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3F999-B428-49C2-9CF7-AFD6143FDC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