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88402"/>
        <c:axId val="70255904"/>
      </c:barChart>
      <c:catAx>
        <c:axId val="43288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55904"/>
        <c:crosses val="autoZero"/>
        <c:auto val="1"/>
        <c:lblAlgn val="ctr"/>
        <c:lblOffset val="100"/>
        <c:noMultiLvlLbl val="0"/>
      </c:catAx>
      <c:valAx>
        <c:axId val="70255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88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154-8703-4E23-85BC-67054FF8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F2A-C249-4B9D-9AB5-76A94C67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FF8-0F19-4D48-AEC6-A2FE563F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718-02EE-4E8F-BFB2-CE968447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3F4-8338-48E5-BB20-9A5A9EC1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DA7-E798-4BBE-BFF2-BBF6E87B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987-BD3D-4050-8146-424CC1C2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9C1-403D-43B5-A469-58987A0B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EFC-6C07-46A5-9430-14D42871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3A6-2C8B-4BF0-8653-3EB7157E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FD8-BDCE-4C7E-BD6A-FFDF7616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A98-895B-490E-BD18-B6805B7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11C50-1516-4AEB-AD28-448E7AEFEE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